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6.wmf" ContentType="image/x-wmf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1.jpeg" ContentType="image/jpeg"/>
  <Override PartName="/ppt/media/image13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gif" ContentType="image/gif"/>
  <Override PartName="/ppt/media/image28.jpeg" ContentType="image/jpeg"/>
  <Override PartName="/ppt/media/image16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4.jpeg" ContentType="image/jpeg"/>
  <Override PartName="/ppt/media/image26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0A0-8221-436F-858A-85E95664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7BC-6602-498D-AA27-8EBD1AB5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ABDE1-B9A8-4954-ACEC-10E6D0A3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EAAD9-E6E7-413F-93BF-B7FE81EB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06862-1692-4657-BC72-E5864B0C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7B843-3D6C-4D81-B8A8-EC9EB44A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996FF-5AF8-4A76-A6B7-4A124441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155A8-A730-4DA2-9EBE-07A7A628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AE262-8929-401F-859C-CC0BA2B3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F6068-BB35-4724-9978-4799D9C0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97817-ABF7-4A45-BC16-CFA28C80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093-2D61-436C-9DBC-435313BF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935-2045-40CF-9C2B-7922E42B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9408-2A8B-4A10-BF0B-0FBE8436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94DD-872A-40E1-93E8-68064BF6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2073-66C0-4F67-B3A7-F6A24F59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F53F-66DF-4970-A94B-ABA11280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14C0-2C06-4DF6-A4D2-901D8D2B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8AEE-EB7F-4BCA-B710-093E813C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FFDD-679A-425A-B360-4D3D7E57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57E-926F-437B-9CC4-E24B4C5D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17F5-64A3-4AFF-A192-BC6A6BD6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9FEA-D2E5-4A40-BA71-CF58AC90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5285-969B-4E91-9BBF-C8F4DC91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984E-03A6-4FC6-B0AE-C34D090A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EE46-C5D0-49A8-BEDC-CC21E186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77BC6-58A4-4C80-94FA-D1A18CD2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462AF-364A-453F-A513-1544D324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3FD4E-A93A-4074-854C-1158C3B2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92A88-78B8-4AD2-8894-DBF52AD5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9304F-D14C-417C-8664-01F76C42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D61-BC3B-433F-8296-CE85EE28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7A762-798F-4DB1-B195-F80761A4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C72AA-37F2-4E3A-9D16-86CCEE25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BCB8D-0984-4F0A-8876-1DD94635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DC5F-FBE4-4131-A2B9-52D8F260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C23B-3E62-4C4A-9AC7-B000CECF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30229-436F-47EE-82F2-36551C64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1E005-4ACE-456F-A7C2-9FEC06FA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48193-36F7-4694-B8EF-A0F249D5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6A780-07A8-4310-8FB8-2F108085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03EB1-92B7-44EA-B973-C9600623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DC7-8C56-4043-9A0A-94379F94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08DB6-6A49-45CD-AD7C-9595A801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B0706-395C-43CA-9A6F-79D42FC8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FAB0D-E421-48AF-90C6-D970853C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94EF0-7CED-4A06-BE93-786B1982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DF7C6-677D-4209-8740-8D89A953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B67D-E314-46C8-B449-69ABCFD7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B7447-513C-48B7-848A-B344AF5E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21B7D-97FA-4F3F-888A-2E8693F7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04BD-219E-43CA-9E70-1825EA0C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73757-AEBB-4157-AD92-2A00AF5B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6F1-3C05-4EFC-8B66-3F936B9B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BDAED-CC45-41D9-AAC1-63FA911D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71328-A863-45B4-8F14-37FFDCD3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DAD41-4332-4184-832C-D384EB24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CE01D-C97F-4896-ADEC-7E8ABB46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308AB-8F41-4B92-8711-C629BAFA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CCAC1-DCE5-4002-9E1C-F2DCDC81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30AB1-B93C-432A-B11D-71D0A93C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3EBFF-E7C6-4C1F-9AC1-C8462D4A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FE2C6-7D54-47A6-A6E3-C024A1D3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2317C-23EA-4E8D-9582-5FD10824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B0D-5211-445D-B9C2-8E490F9E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7DBB9-A000-4500-97C7-D1D8D58F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EE1B0-AC21-4D1E-BA29-0E17E2C0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2FBAA-E0A2-4350-9CFC-560CB6EF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E13C4-7F55-463B-BA5F-D49536AF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97F70-5DFB-4901-9FC4-39907BE4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C52D0-C640-4DA0-A865-D803D463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39679-1E6E-4CA2-B1E2-A62E78FD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5E1B4-8FEB-4DAE-A982-FB2782D8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C681D-2A26-4BC8-AFF7-3EC9A238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11FD8-1899-4D58-A10F-B27195D4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E22-1DB9-4ACB-A869-7F074971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E2DB7-AE42-4C35-9F62-91DA6B56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15BAE-143B-45FA-8075-095A809D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8724C-DDFE-4182-9F74-2B13501C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2ACFC-1643-48CE-9AC6-26252097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190C8-BA9B-498D-B863-D7729EF5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38A27-FBA2-441D-95D5-1D58C099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D5777-FEB1-461E-955D-6E1FF62A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032CF-F1A4-4E86-BB52-161122DA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BAF95-81B3-49BE-AE09-A91CF37A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6975F-C635-4B7D-B693-9F71BF68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8B5-43B6-40DB-8235-986E5648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1614D-6497-4050-A1BA-FB5AEE82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32092-8742-4D26-8C09-6616D550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17F95-A060-4A68-98EB-0AACA769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07C1F-4248-4811-87E2-E1E6BAB1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939E0-C6DE-4850-ADCD-156F2DD8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5E63C-48F2-4389-84B7-92961722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0683E-7399-4206-9D39-13727BA3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FFEB1-8C11-481E-85F3-7376DAA2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3BD28-C5B4-48E8-9D63-31F78EB1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5B1B8-F246-4B1D-BA81-3751BA3A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95C-A2E5-4BF3-8E29-179EBAFA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0E050-EFA1-4AAD-A3E6-0D895AE4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18185-D991-4AB1-9451-2BAB3A57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9EC5B-786A-4B22-A45D-8CD97BD2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FA279-23D9-46B2-8820-32D27A21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A74F9-1A1C-44CA-8ABD-7E362E6A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3D8A1-94FE-4F6A-863C-CCE0ABC3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C12D8-F501-44E8-A34F-156156FA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2270B-D4B4-482A-8445-196A2523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4FE35-8AD1-47B3-A7FF-A068E62E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478D1-A58A-48B2-9FD7-4C8B260C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EC3F-A24D-4DDA-8A32-0B6CFCE0344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DE1A-5B2D-4190-9263-D0B8A3D2177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F7CA-2F40-4079-8146-1CD6EA42C92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C471-2026-44BC-920B-92BAE46D298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9FFD-D5CE-4306-A30F-E1FE33D106C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5FC5-BA9D-4C20-80EF-A6AE7F98E2F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5834-945C-4B7C-9984-162D299B4DA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AC5A-73FF-4776-9934-EDA6AD033BB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13CB-382F-408D-8E21-B5FDA902717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5667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Family +School +Work= My Lif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2" descr="C:\Documents and Settings\Florines Mendez\Local Settings\Temporary Internet Files\Content.IE5\33O30GFO\MC900412672[1].wmf"/>
          <p:cNvPicPr/>
          <p:nvPr/>
        </p:nvPicPr>
        <p:blipFill>
          <a:blip r:embed="rId2"/>
          <a:stretch/>
        </p:blipFill>
        <p:spPr>
          <a:xfrm>
            <a:off x="3200400" y="533520"/>
            <a:ext cx="291780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C:\Documents and Settings\Florines Mendez\Local Settings\Temporary Internet Files\Content.IE5\LHWDKXJB\MP900439409[1].jpg"/>
          <p:cNvPicPr/>
          <p:nvPr/>
        </p:nvPicPr>
        <p:blipFill>
          <a:blip r:embed="rId2"/>
          <a:stretch/>
        </p:blipFill>
        <p:spPr>
          <a:xfrm>
            <a:off x="4419720" y="1981080"/>
            <a:ext cx="3932280" cy="2880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Cambridge College.png"/>
          <p:cNvPicPr/>
          <p:nvPr/>
        </p:nvPicPr>
        <p:blipFill>
          <a:blip r:embed="rId3"/>
          <a:stretch/>
        </p:blipFill>
        <p:spPr>
          <a:xfrm>
            <a:off x="457200" y="2133720"/>
            <a:ext cx="37576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31" name="Content Placeholder 3" descr="The savings Bank.jpg"/>
          <p:cNvPicPr/>
          <p:nvPr/>
        </p:nvPicPr>
        <p:blipFill>
          <a:blip r:embed="rId2"/>
          <a:stretch/>
        </p:blipFill>
        <p:spPr>
          <a:xfrm>
            <a:off x="3124080" y="1447920"/>
            <a:ext cx="3191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lette Rond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orn and raised in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Dominican Republic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ankful to God toda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nd  everyday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3" descr="182256_493376671325_670156325_6633735_2785247_a.jpg"/>
          <p:cNvPicPr/>
          <p:nvPr/>
        </p:nvPicPr>
        <p:blipFill>
          <a:blip r:embed="rId2"/>
          <a:stretch/>
        </p:blipFill>
        <p:spPr>
          <a:xfrm>
            <a:off x="6019920" y="1447920"/>
            <a:ext cx="22860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Content Placeholder 3" descr="Mi familia.jpg"/>
          <p:cNvPicPr/>
          <p:nvPr/>
        </p:nvPicPr>
        <p:blipFill>
          <a:blip r:embed="rId2"/>
          <a:stretch/>
        </p:blipFill>
        <p:spPr>
          <a:xfrm>
            <a:off x="1447920" y="1752480"/>
            <a:ext cx="60958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ontent Placeholder 3" descr="My mother.jpg"/>
          <p:cNvPicPr/>
          <p:nvPr/>
        </p:nvPicPr>
        <p:blipFill>
          <a:blip r:embed="rId1"/>
          <a:stretch/>
        </p:blipFill>
        <p:spPr>
          <a:xfrm>
            <a:off x="2514600" y="1219320"/>
            <a:ext cx="3770280" cy="3724200"/>
          </a:xfrm>
          <a:prstGeom prst="rect">
            <a:avLst/>
          </a:prstGeom>
          <a:ln w="0">
            <a:noFill/>
          </a:ln>
        </p:spPr>
      </p:pic>
      <p:sp>
        <p:nvSpPr>
          <p:cNvPr id="408" name="TextBox 4"/>
          <p:cNvSpPr/>
          <p:nvPr/>
        </p:nvSpPr>
        <p:spPr>
          <a:xfrm>
            <a:off x="2133720" y="54100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My Mother Daisy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9" name="Picture 2" descr="C:\Documents and Settings\Florines Mendez\Local Settings\Temporary Internet Files\Content.IE5\50DRHZHK\MP900446566[1].jpg"/>
          <p:cNvPicPr/>
          <p:nvPr/>
        </p:nvPicPr>
        <p:blipFill>
          <a:blip r:embed="rId2"/>
          <a:stretch/>
        </p:blipFill>
        <p:spPr>
          <a:xfrm>
            <a:off x="6477120" y="533520"/>
            <a:ext cx="2058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1" name="Content Placeholder 3" descr="Anabelle.jpg"/>
          <p:cNvPicPr/>
          <p:nvPr/>
        </p:nvPicPr>
        <p:blipFill>
          <a:blip r:embed="rId2"/>
          <a:stretch/>
        </p:blipFill>
        <p:spPr>
          <a:xfrm>
            <a:off x="2819520" y="1523880"/>
            <a:ext cx="5567400" cy="4175280"/>
          </a:xfrm>
          <a:prstGeom prst="rect">
            <a:avLst/>
          </a:prstGeom>
          <a:ln w="0">
            <a:noFill/>
          </a:ln>
        </p:spPr>
      </p:pic>
      <p:sp>
        <p:nvSpPr>
          <p:cNvPr id="412" name="TextBox 4"/>
          <p:cNvSpPr/>
          <p:nvPr/>
        </p:nvSpPr>
        <p:spPr>
          <a:xfrm>
            <a:off x="3276720" y="5867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Anabell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3" name="Picture 2" descr="C:\Program Files\Microsoft Office\MEDIA\CAGCAT10\j0295241.gif"/>
          <p:cNvPicPr/>
          <p:nvPr/>
        </p:nvPicPr>
        <p:blipFill>
          <a:blip r:embed="rId3"/>
          <a:stretch/>
        </p:blipFill>
        <p:spPr>
          <a:xfrm>
            <a:off x="457200" y="1143000"/>
            <a:ext cx="18288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5" name="Content Placeholder 3" descr="Armando.jpg"/>
          <p:cNvPicPr/>
          <p:nvPr/>
        </p:nvPicPr>
        <p:blipFill>
          <a:blip r:embed="rId2"/>
          <a:stretch/>
        </p:blipFill>
        <p:spPr>
          <a:xfrm>
            <a:off x="1066680" y="1447920"/>
            <a:ext cx="2783160" cy="4174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My sister in law.jpg"/>
          <p:cNvPicPr/>
          <p:nvPr/>
        </p:nvPicPr>
        <p:blipFill>
          <a:blip r:embed="rId3"/>
          <a:stretch/>
        </p:blipFill>
        <p:spPr>
          <a:xfrm>
            <a:off x="4648320" y="14479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8" name="Content Placeholder 3" descr="Marcos.jpg"/>
          <p:cNvPicPr/>
          <p:nvPr/>
        </p:nvPicPr>
        <p:blipFill>
          <a:blip r:embed="rId2"/>
          <a:stretch/>
        </p:blipFill>
        <p:spPr>
          <a:xfrm>
            <a:off x="3141720" y="1554120"/>
            <a:ext cx="3012840" cy="4525920"/>
          </a:xfrm>
          <a:prstGeom prst="rect">
            <a:avLst/>
          </a:prstGeom>
          <a:ln w="0">
            <a:noFill/>
          </a:ln>
        </p:spPr>
      </p:pic>
      <p:sp>
        <p:nvSpPr>
          <p:cNvPr id="419" name="TextBox 4"/>
          <p:cNvSpPr/>
          <p:nvPr/>
        </p:nvSpPr>
        <p:spPr>
          <a:xfrm>
            <a:off x="3657600" y="6172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Marco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1" name="Content Placeholder 3" descr="Carlos and Jose.jpg"/>
          <p:cNvPicPr/>
          <p:nvPr/>
        </p:nvPicPr>
        <p:blipFill>
          <a:blip r:embed="rId2"/>
          <a:stretch/>
        </p:blipFill>
        <p:spPr>
          <a:xfrm>
            <a:off x="1616040" y="1554120"/>
            <a:ext cx="6064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3" name="Content Placeholder 3" descr="Best Friend.jpg"/>
          <p:cNvPicPr/>
          <p:nvPr/>
        </p:nvPicPr>
        <p:blipFill>
          <a:blip r:embed="rId2"/>
          <a:stretch/>
        </p:blipFill>
        <p:spPr>
          <a:xfrm>
            <a:off x="1143000" y="1295280"/>
            <a:ext cx="3068640" cy="4091040"/>
          </a:xfrm>
          <a:prstGeom prst="rect">
            <a:avLst/>
          </a:prstGeom>
          <a:ln w="0">
            <a:noFill/>
          </a:ln>
        </p:spPr>
      </p:pic>
      <p:sp>
        <p:nvSpPr>
          <p:cNvPr id="424" name="TextBox 4"/>
          <p:cNvSpPr/>
          <p:nvPr/>
        </p:nvSpPr>
        <p:spPr>
          <a:xfrm>
            <a:off x="2595600" y="6019920"/>
            <a:ext cx="8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ls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5" name="Picture 2" descr="C:\Documents and Settings\Florines Mendez\Local Settings\Temporary Internet Files\Content.IE5\33O30GFO\MP900227632[1].jpg"/>
          <p:cNvPicPr/>
          <p:nvPr/>
        </p:nvPicPr>
        <p:blipFill>
          <a:blip r:embed="rId3"/>
          <a:stretch/>
        </p:blipFill>
        <p:spPr>
          <a:xfrm>
            <a:off x="4495680" y="3962520"/>
            <a:ext cx="3657600" cy="2408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C:\Documents and Settings\Florines Mendez\Local Settings\Temporary Internet Files\Content.IE5\LHWDKXJB\MC900100240[1].wmf"/>
          <p:cNvPicPr/>
          <p:nvPr/>
        </p:nvPicPr>
        <p:blipFill>
          <a:blip r:embed="rId4"/>
          <a:stretch/>
        </p:blipFill>
        <p:spPr>
          <a:xfrm>
            <a:off x="6019920" y="0"/>
            <a:ext cx="2789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3:21:35Z</dcterms:created>
  <dc:creator>Valued Acer Customer</dc:creator>
  <dc:description/>
  <dc:language>en-US</dc:language>
  <cp:lastModifiedBy>Valued Acer Customer</cp:lastModifiedBy>
  <dcterms:modified xsi:type="dcterms:W3CDTF">2012-03-25T13:52:06Z</dcterms:modified>
  <cp:revision>1</cp:revision>
  <dc:subject/>
  <dc:title>Arlette Rondon    Information Literacy</dc:title>
</cp:coreProperties>
</file>